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89ED-25DF-45A3-80E9-0A0FE28F7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A3FC-8CFF-4B7B-BE48-A0B5D81B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ACAB-1F02-464B-B8D5-720BBC5BF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6FF0-BA88-491C-89F8-C0CD4C55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2AE4-0ABA-400C-9D0E-3612665A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51AB-EBC7-498E-8C3D-02EF97F6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74A4-64C1-418C-83EB-D23BECEA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4056-8FF0-4A53-9176-59E023F7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2934-DE35-4CF1-A4AB-9E899BD0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6A0E-57A5-4366-AFC2-97EA8140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971C-D608-4B5D-AFDA-190E1C31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B234-B87A-4CBD-B872-7A9644EF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D97F-772E-4496-8BC0-0490863BD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L-Con Writing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 from paragraph to complete papers for Sophom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TW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dentify the key idea you will link your evidence to with your link/expla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he key idea of what you are trying to prove or expl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-for each example you give, ,you must link it back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your key idea(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plai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EP TH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dentify your first example that you think supports your expla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EP F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K YOUR EXAMPLE BACK TO YOUR KEY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F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EAT THE PREVIOUS TWO STE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NOTHER EXAMPLE AND LINK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EP S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KE SURE YOU USE TRANSITIONS BETWEEN EACH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irst example  that supports this is that………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EP SE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ND YOUR PARAGRAPH WITH A CONCLUDING STATEMENT TO WRAP UP YOUR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it is clear that…….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example that  supports this is tha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xt part of the play that supports was the fact that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 final reason comes from the part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 out the MEL-Con writing program will change students’ writing one paragraph at a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be taught to organize and focus their id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will learn to use specific examples to support their argument and will be less likely to diverge from their main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focusing their argument, students will effectively communicate their position, which is an important component of all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MMSA students will be taught the process of writing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irst step in teaching sophom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 students to write better developed, clearer, more organized paragraphs in response to essay questions or any written assignment which requires explanation or persua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Overview of the Acronyms “MEL-Con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      =Main Idea (Topic Sent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       =Evidence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upport/Topic/Proo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         =LINK(Explains how support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es main id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Concluding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ummarizes main idea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=Main Id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” the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s up the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sentence of the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477120" y="4191120"/>
            <a:ext cx="20476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=Evidence or Examp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from sources such as books, lectures, readings, etc. that support your main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stuff” you learned or found out about the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can be quotes, statistics, 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is something that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mon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one can find it or us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=Lin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s the evidence you used to the key idea in your topic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s how the evidence supports your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nk is what you think or how you relate the evidence to the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link is unique—it shows your thought process and why you chose the evidence you ch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=Concluding stateme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st sentence of your paragraph which summarizes your answer, your evi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tion your three pieces of evidence again in a new, short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n’t forget to use transitions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arate each of your pieces of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anizes your paragraph and makes it easy for the reader to fol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Even more importantly      Moreover                      Third but most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A great example is                          One good example is                       A final good exampl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skerville Old Face"/>
              </a:rPr>
              <a:t>The first good reason is                                A second quote is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7 steps to MEL-Con paragraph writ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One: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swer the question with a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start with “I think” or “I feel” or “I believe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start with Yes or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BECOMES YOUR MAIN IDEA: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-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5:17:17Z</dcterms:created>
  <dc:creator>Chicago Public Schools</dc:creator>
  <dc:description/>
  <dc:language>en-US</dc:language>
  <cp:lastModifiedBy>Chicago Public Schools</cp:lastModifiedBy>
  <dcterms:modified xsi:type="dcterms:W3CDTF">2010-12-09T15:36:12Z</dcterms:modified>
  <cp:revision>2</cp:revision>
  <dc:subject/>
  <dc:title>MEL-Con Writing Strategy</dc:title>
</cp:coreProperties>
</file>